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19 april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946240" y="6381720"/>
            <a:ext cx="3302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929280" y="6324480"/>
            <a:ext cx="206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4256-0C02-4762-A267-D184156BA193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19 april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68480" y="6453360"/>
            <a:ext cx="3302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93080" y="152280"/>
            <a:ext cx="1670040" cy="65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eant4.com/hadronics/GHAD/HomePage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58920" y="1484280"/>
            <a:ext cx="640080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roton On Target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G4 v7.0p1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luka 2003.1b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Physical case: see M. Bonesini et al.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hep-ph/0101163 published in EPJC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ka vs BMPT ?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As there is a significant disagreement between G4/QGSP and SPY data and also BMPT parameterization, one can question the cross-section computation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Use Fluka in the same beam &amp; target conditions and compute the cross-section exactly as previously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luka vs BMP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7914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luka vs BMP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041480"/>
            <a:ext cx="6801120" cy="5124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18560" y="4700520"/>
            <a:ext cx="209196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mall overestimat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or x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= 0.7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reliminary conclusion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computation of the cross-section is correct;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Fluka 2003.1b reproduces quite well the SPY-BMPT parameterization;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One may wander if Fluka is using the BMPT parameterization in some way?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Geant4/QGSP fails: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Need some expertise from G4 Team to see if I do not make a misuse of G4 and/or QGSP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268360" y="1700280"/>
            <a:ext cx="4608720" cy="374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xtr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76720" y="74160"/>
            <a:ext cx="302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Kaons </a:t>
            </a:r>
            <a:br>
              <a:rPr sz="2800"/>
            </a:b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(SPY use case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43480" y="1484280"/>
            <a:ext cx="3405240" cy="2581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92600" y="1125360"/>
            <a:ext cx="0" cy="511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80080" y="76500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lu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364000" y="4005360"/>
            <a:ext cx="3410280" cy="2600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379880" y="765000"/>
            <a:ext cx="19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4/QG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3476520" cy="2586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11280" y="4005360"/>
            <a:ext cx="345600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5327640" cy="40356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(24 GeV/c)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B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Eichten et al. NP B44(92)333. 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651640" y="1844640"/>
            <a:ext cx="3017520" cy="4152960"/>
            <a:chOff x="5651640" y="1844640"/>
            <a:chExt cx="3017520" cy="415296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5651640" y="1844640"/>
              <a:ext cx="3017520" cy="41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588000" y="2492280"/>
              <a:ext cx="2016360" cy="2016360"/>
            </a:xfrm>
            <a:custGeom>
              <a:avLst/>
              <a:gdLst/>
              <a:ahLst/>
              <a:rect l="l" t="t" r="r" b="b"/>
              <a:pathLst>
                <a:path w="1270" h="1270">
                  <a:moveTo>
                    <a:pt x="0" y="0"/>
                  </a:moveTo>
                  <a:cubicBezTo>
                    <a:pt x="38" y="26"/>
                    <a:pt x="158" y="108"/>
                    <a:pt x="226" y="154"/>
                  </a:cubicBezTo>
                  <a:cubicBezTo>
                    <a:pt x="294" y="200"/>
                    <a:pt x="330" y="224"/>
                    <a:pt x="406" y="274"/>
                  </a:cubicBezTo>
                  <a:cubicBezTo>
                    <a:pt x="482" y="324"/>
                    <a:pt x="589" y="379"/>
                    <a:pt x="680" y="454"/>
                  </a:cubicBezTo>
                  <a:cubicBezTo>
                    <a:pt x="771" y="529"/>
                    <a:pt x="877" y="635"/>
                    <a:pt x="953" y="726"/>
                  </a:cubicBezTo>
                  <a:cubicBezTo>
                    <a:pt x="1029" y="817"/>
                    <a:pt x="1089" y="915"/>
                    <a:pt x="1134" y="998"/>
                  </a:cubicBezTo>
                  <a:cubicBezTo>
                    <a:pt x="1179" y="1081"/>
                    <a:pt x="1202" y="1180"/>
                    <a:pt x="1225" y="1225"/>
                  </a:cubicBezTo>
                  <a:cubicBezTo>
                    <a:pt x="1248" y="1270"/>
                    <a:pt x="1259" y="1270"/>
                    <a:pt x="1270" y="127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59560" y="2522520"/>
              <a:ext cx="1911240" cy="2621160"/>
            </a:xfrm>
            <a:custGeom>
              <a:avLst/>
              <a:gdLst/>
              <a:ahLst/>
              <a:rect l="l" t="t" r="r" b="b"/>
              <a:pathLst>
                <a:path w="1204" h="1651">
                  <a:moveTo>
                    <a:pt x="154" y="117"/>
                  </a:moveTo>
                  <a:cubicBezTo>
                    <a:pt x="133" y="103"/>
                    <a:pt x="0" y="0"/>
                    <a:pt x="28" y="31"/>
                  </a:cubicBezTo>
                  <a:cubicBezTo>
                    <a:pt x="56" y="62"/>
                    <a:pt x="245" y="230"/>
                    <a:pt x="320" y="303"/>
                  </a:cubicBezTo>
                  <a:cubicBezTo>
                    <a:pt x="395" y="376"/>
                    <a:pt x="419" y="398"/>
                    <a:pt x="480" y="467"/>
                  </a:cubicBezTo>
                  <a:cubicBezTo>
                    <a:pt x="541" y="536"/>
                    <a:pt x="620" y="632"/>
                    <a:pt x="688" y="719"/>
                  </a:cubicBezTo>
                  <a:cubicBezTo>
                    <a:pt x="756" y="806"/>
                    <a:pt x="831" y="901"/>
                    <a:pt x="888" y="991"/>
                  </a:cubicBezTo>
                  <a:cubicBezTo>
                    <a:pt x="945" y="1081"/>
                    <a:pt x="991" y="1184"/>
                    <a:pt x="1028" y="1259"/>
                  </a:cubicBezTo>
                  <a:cubicBezTo>
                    <a:pt x="1065" y="1334"/>
                    <a:pt x="1091" y="1394"/>
                    <a:pt x="1112" y="1443"/>
                  </a:cubicBezTo>
                  <a:cubicBezTo>
                    <a:pt x="1133" y="1492"/>
                    <a:pt x="1141" y="1516"/>
                    <a:pt x="1156" y="1551"/>
                  </a:cubicBezTo>
                  <a:cubicBezTo>
                    <a:pt x="1171" y="1586"/>
                    <a:pt x="1194" y="1630"/>
                    <a:pt x="1204" y="165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88000" y="2637000"/>
              <a:ext cx="1711440" cy="2849400"/>
            </a:xfrm>
            <a:custGeom>
              <a:avLst/>
              <a:gdLst/>
              <a:ahLst/>
              <a:rect l="l" t="t" r="r" b="b"/>
              <a:pathLst>
                <a:path w="1078" h="1795">
                  <a:moveTo>
                    <a:pt x="0" y="0"/>
                  </a:moveTo>
                  <a:cubicBezTo>
                    <a:pt x="28" y="37"/>
                    <a:pt x="106" y="149"/>
                    <a:pt x="166" y="223"/>
                  </a:cubicBezTo>
                  <a:cubicBezTo>
                    <a:pt x="226" y="297"/>
                    <a:pt x="314" y="389"/>
                    <a:pt x="358" y="447"/>
                  </a:cubicBezTo>
                  <a:cubicBezTo>
                    <a:pt x="402" y="505"/>
                    <a:pt x="395" y="515"/>
                    <a:pt x="430" y="571"/>
                  </a:cubicBezTo>
                  <a:cubicBezTo>
                    <a:pt x="465" y="627"/>
                    <a:pt x="515" y="695"/>
                    <a:pt x="570" y="783"/>
                  </a:cubicBezTo>
                  <a:cubicBezTo>
                    <a:pt x="625" y="871"/>
                    <a:pt x="701" y="996"/>
                    <a:pt x="758" y="1099"/>
                  </a:cubicBezTo>
                  <a:cubicBezTo>
                    <a:pt x="815" y="1202"/>
                    <a:pt x="872" y="1314"/>
                    <a:pt x="914" y="1403"/>
                  </a:cubicBezTo>
                  <a:cubicBezTo>
                    <a:pt x="956" y="1492"/>
                    <a:pt x="983" y="1566"/>
                    <a:pt x="1010" y="1631"/>
                  </a:cubicBezTo>
                  <a:cubicBezTo>
                    <a:pt x="1037" y="1696"/>
                    <a:pt x="1064" y="1761"/>
                    <a:pt x="1078" y="179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88000" y="2739960"/>
              <a:ext cx="1343160" cy="2873520"/>
            </a:xfrm>
            <a:custGeom>
              <a:avLst/>
              <a:gdLst/>
              <a:ahLst/>
              <a:rect l="l" t="t" r="r" b="b"/>
              <a:pathLst>
                <a:path w="846" h="1810">
                  <a:moveTo>
                    <a:pt x="0" y="0"/>
                  </a:moveTo>
                  <a:cubicBezTo>
                    <a:pt x="28" y="51"/>
                    <a:pt x="113" y="206"/>
                    <a:pt x="166" y="306"/>
                  </a:cubicBezTo>
                  <a:cubicBezTo>
                    <a:pt x="219" y="406"/>
                    <a:pt x="280" y="521"/>
                    <a:pt x="318" y="598"/>
                  </a:cubicBezTo>
                  <a:cubicBezTo>
                    <a:pt x="356" y="675"/>
                    <a:pt x="360" y="696"/>
                    <a:pt x="394" y="766"/>
                  </a:cubicBezTo>
                  <a:cubicBezTo>
                    <a:pt x="428" y="836"/>
                    <a:pt x="492" y="948"/>
                    <a:pt x="522" y="1018"/>
                  </a:cubicBezTo>
                  <a:cubicBezTo>
                    <a:pt x="552" y="1088"/>
                    <a:pt x="546" y="1117"/>
                    <a:pt x="574" y="1186"/>
                  </a:cubicBezTo>
                  <a:cubicBezTo>
                    <a:pt x="602" y="1255"/>
                    <a:pt x="661" y="1363"/>
                    <a:pt x="690" y="1430"/>
                  </a:cubicBezTo>
                  <a:cubicBezTo>
                    <a:pt x="719" y="1497"/>
                    <a:pt x="733" y="1541"/>
                    <a:pt x="750" y="1586"/>
                  </a:cubicBezTo>
                  <a:cubicBezTo>
                    <a:pt x="767" y="1631"/>
                    <a:pt x="779" y="1674"/>
                    <a:pt x="790" y="1698"/>
                  </a:cubicBezTo>
                  <a:cubicBezTo>
                    <a:pt x="801" y="1722"/>
                    <a:pt x="805" y="1711"/>
                    <a:pt x="814" y="1730"/>
                  </a:cubicBezTo>
                  <a:cubicBezTo>
                    <a:pt x="823" y="1749"/>
                    <a:pt x="839" y="1793"/>
                    <a:pt x="846" y="181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531840" y="1413000"/>
            <a:ext cx="1713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+ B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78040" y="4076640"/>
            <a:ext cx="2160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4QGSP + B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22920" y="2060640"/>
            <a:ext cx="584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0066ff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08720" y="1268280"/>
            <a:ext cx="3311280" cy="4897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(24 GeV/c)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e (cont’ed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268280" y="1484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4QGSP + BM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4465800" cy="3189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490920" cy="2651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219640" y="3789360"/>
            <a:ext cx="3456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goal: from F. Pietropaolo SL seminar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1285920"/>
            <a:ext cx="8640720" cy="4968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57920" y="6093000"/>
            <a:ext cx="21999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Reproduce th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e target &amp; beam (SPY-like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7520" y="1281240"/>
            <a:ext cx="6828840" cy="3854160"/>
            <a:chOff x="767520" y="1281240"/>
            <a:chExt cx="6828840" cy="3854160"/>
          </a:xfrm>
        </p:grpSpPr>
        <p:grpSp>
          <p:nvGrpSpPr>
            <p:cNvPr id="91" name=""/>
            <p:cNvGrpSpPr/>
            <p:nvPr/>
          </p:nvGrpSpPr>
          <p:grpSpPr>
            <a:xfrm>
              <a:off x="924840" y="1281240"/>
              <a:ext cx="6671520" cy="3854160"/>
              <a:chOff x="924840" y="1281240"/>
              <a:chExt cx="6671520" cy="385416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924840" y="1281240"/>
                <a:ext cx="6671520" cy="3854160"/>
                <a:chOff x="924840" y="1281240"/>
                <a:chExt cx="6671520" cy="385416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rcRect l="4260" t="17657" r="1767" b="8688"/>
                <a:stretch/>
              </p:blipFill>
              <p:spPr>
                <a:xfrm>
                  <a:off x="1187280" y="1665000"/>
                  <a:ext cx="6337440" cy="331128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 rot="20398200">
                  <a:off x="4572360" y="4329720"/>
                  <a:ext cx="2444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160 m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5" name=""/>
                <p:cNvGrpSpPr/>
                <p:nvPr/>
              </p:nvGrpSpPr>
              <p:grpSpPr>
                <a:xfrm>
                  <a:off x="5651640" y="1281240"/>
                  <a:ext cx="1944720" cy="1751760"/>
                  <a:chOff x="5651640" y="1281240"/>
                  <a:chExt cx="1944720" cy="175176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5651640" y="1665000"/>
                    <a:ext cx="1944720" cy="1368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2173800">
                    <a:off x="5861520" y="1752840"/>
                    <a:ext cx="17272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100 mm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924840" y="3896640"/>
                  <a:ext cx="983160" cy="398880"/>
                  <a:chOff x="924840" y="3896640"/>
                  <a:chExt cx="983160" cy="3988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924840" y="3896640"/>
                    <a:ext cx="8679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2 mm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1908000" y="4040640"/>
                    <a:ext cx="0" cy="21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" name=""/>
              <p:cNvGrpSpPr/>
              <p:nvPr/>
            </p:nvGrpSpPr>
            <p:grpSpPr>
              <a:xfrm>
                <a:off x="1466640" y="1413000"/>
                <a:ext cx="1689480" cy="1044000"/>
                <a:chOff x="1466640" y="1413000"/>
                <a:chExt cx="1689480" cy="10440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466640" y="1413000"/>
                  <a:ext cx="1689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P (400GeV/c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411280" y="1954080"/>
                  <a:ext cx="720720" cy="50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"/>
            <p:cNvSpPr/>
            <p:nvPr/>
          </p:nvSpPr>
          <p:spPr>
            <a:xfrm flipV="1">
              <a:off x="3492360" y="3465360"/>
              <a:ext cx="396108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7520" y="2384280"/>
              <a:ext cx="17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Comic Sans MS"/>
                </a:rPr>
                <a:t>Typical ev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72520" y="2960640"/>
              <a:ext cx="133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e Targ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7209720" y="126828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penScientist viz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99080" y="5516640"/>
            <a:ext cx="702036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or Geant4 use QGSP physics list (cf. Hans-Peter Wellis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http://www.geant4.com/hadronics/GHAD/HomePag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Analysis (simple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un N</a:t>
            </a:r>
            <a:r>
              <a:rPr b="0" lang="en-GB" sz="2800" spc="-1" strike="noStrike" baseline="-25000">
                <a:solidFill>
                  <a:srgbClr val="003399"/>
                </a:solidFill>
                <a:latin typeface="Comic Sans MS"/>
              </a:rPr>
              <a:t>pot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=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protons mono-energetic and pencil-like beam on targe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egister </a:t>
            </a:r>
            <a:r>
              <a:rPr b="0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±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K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±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particles that exit the targe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Compute the production cross-section: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258920" y="4392720"/>
                <a:ext cx="684036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σ</m:t>
                        </m:r>
                      </m:num>
                      <m:den>
                        <m:r>
                          <m:t xml:space="preserve">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t</m:t>
                            </m:r>
                          </m:sub>
                        </m:sSub>
                        <m:r>
                          <m:t xml:space="preserve">ρ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u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780560" y="3502080"/>
            <a:ext cx="200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sume symmet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ound the beam ax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771640" y="4076640"/>
            <a:ext cx="50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6960" y="5853240"/>
            <a:ext cx="5718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eryllium: A = 9g/mol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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g/c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= 6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mo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8040" y="6284880"/>
            <a:ext cx="71208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equ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(L=100mm) = 82mm with f(L) Eq.7 Ambrosini et al. CERN-EP/99-1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4437000"/>
            <a:ext cx="1584360" cy="1297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95280" y="5516640"/>
            <a:ext cx="36036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27160" y="3621240"/>
            <a:ext cx="2320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umber of particles 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in and j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mic Sans MS"/>
              </a:rPr>
              <a:t>th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b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0400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6871320" y="4504320"/>
            <a:ext cx="81000" cy="2520720"/>
          </a:xfrm>
          <a:custGeom>
            <a:avLst/>
            <a:gdLst>
              <a:gd name="textAreaLeft" fmla="*/ 0 w 81000"/>
              <a:gd name="textAreaRight" fmla="*/ 29160 w 8100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55800" y="573408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n width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Results with G4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7017480" y="1952640"/>
            <a:ext cx="1477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p/p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B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0" y="1341360"/>
            <a:ext cx="6934320" cy="5048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018480" y="3573360"/>
            <a:ext cx="3088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dots are from Tab. 1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. Bonesini et 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Results with G4 (cont’ed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39720" y="1171440"/>
            <a:ext cx="753264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M. Bonesini et al. parameterization (BMPT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4145" t="0" r="0" b="2870"/>
          <a:stretch/>
        </p:blipFill>
        <p:spPr>
          <a:xfrm>
            <a:off x="539640" y="1341360"/>
            <a:ext cx="7488360" cy="2089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4319640" cy="1314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826920" y="5157720"/>
            <a:ext cx="7850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ameters fit on SPY &amp; Na20 data and then allows one to extrapolate to other use cases: diff. proton energy, diff. target mater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30280" y="2924280"/>
            <a:ext cx="11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K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4920" y="4149720"/>
            <a:ext cx="20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, K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/K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41400" y="3500280"/>
            <a:ext cx="156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x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~ p/p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Comic Sans MS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Geant4/QGSP vs BMP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8360" y="1324080"/>
            <a:ext cx="68580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Geant4/QGSP vs BMPT (cont’ed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6648480" cy="51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9:40:46Z</dcterms:created>
  <dc:creator>J.E Campagne</dc:creator>
  <dc:description/>
  <dc:language>en-US</dc:language>
  <cp:lastModifiedBy>J.E Campagne</cp:lastModifiedBy>
  <dcterms:modified xsi:type="dcterms:W3CDTF">2005-04-19T12:38:30Z</dcterms:modified>
  <cp:revision>28</cp:revision>
  <dc:subject/>
  <dc:title>pBe (400GeV/c)</dc:title>
</cp:coreProperties>
</file>